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9D5-95C0-452C-ABFA-AA288BDB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88A-D001-46A9-9624-BE56D70B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F92-0257-45A8-B5D6-8C04C532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043-B848-42E5-A0CB-445BC1AD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51D6-935D-4881-977C-026918B6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BAB8-B059-43D8-8F59-06BF2E42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797C-80A2-4DE1-B861-8E2F3D61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701-6680-43D9-9867-85478BF3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3970-7F8D-412B-9613-5C5BD91B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3AA8-DC68-4F44-879C-F48B6F6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F086-3BAA-4BC9-A42F-8F60E07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F4B2-B904-41D4-83C2-16192C4B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18BF-9E9B-4C33-9F4C-1AF0D29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3074-61C5-4644-B351-40D29DD4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74A5-6E0D-436F-AD86-C876F8D0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9893-A1B1-4017-9F31-CF71810D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2495-3E90-4625-81C1-E4C3077D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54B4-5215-46B4-BFF8-C3EF252D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6651-D60A-497B-A5AA-9B49B0AC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C7EA-A800-4A29-8FFF-2BED6693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105C-49F5-4AF4-8544-B67DEFD9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5874-171C-4909-BA7F-387A4123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0ADC-BB93-41A2-ABDC-E581C35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D774-014D-42CC-9765-B8EFCD3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CD91-696A-41E8-AAF6-60696CE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32B6-09AB-430F-98FF-A55EF6A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36CF-4F18-4FF5-A03C-D734D996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523A-AF0F-4474-8066-83B61075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A5B-5C5C-4BC4-81DB-082F596D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ECB-CC25-412A-BAB9-4AB5028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CD1-1D07-4FCE-9FAF-5546F52B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EBF-4A46-415E-ABB3-8593EEA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B59-CDD5-47A2-AB68-EFA6D745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039-B087-453A-8F00-C2F1AA5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CCE-F583-44D3-AE23-9CA48B07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ED6-CDF6-4C88-A035-0DF511C2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A43D-60D7-4882-83B1-06F493B9B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B273-EC21-4AAC-9802-5099EBD9EBA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8B5-BADB-4942-924F-B2736A5A875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Normativni okvir za programsko obdobje 2014–2020 za cilj „naložbe za rast in delovna mesta„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ipolže, 10.11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"/>
          <p:cNvSpPr/>
          <p:nvPr/>
        </p:nvSpPr>
        <p:spPr>
          <a:xfrm>
            <a:off x="657360" y="647640"/>
            <a:ext cx="675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2"/>
          <p:cNvSpPr/>
          <p:nvPr/>
        </p:nvSpPr>
        <p:spPr>
          <a:xfrm>
            <a:off x="563400" y="2114640"/>
            <a:ext cx="805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slednja dopolnitev v decemb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Dopolnitev v juniju 2016 – vključitev leta 20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1285920" y="24098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NORMATIVNE PODL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NORMATIVNE PODL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"/>
          <p:cNvSpPr/>
          <p:nvPr/>
        </p:nvSpPr>
        <p:spPr>
          <a:xfrm>
            <a:off x="571680" y="1514520"/>
            <a:ext cx="805788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Uredba o porabi sredstev evropske kohezijske politike v Republiki Sloveniji v programskem obdobju 2014-2020 za cilj naložbe za rast in delovna mesta – april (UL RS, št. 29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Merila za izbor operacij – ma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kon o izvrševanju proračunov Republike Slovenije za leti 2014 in 2015 – junij (UL RS, št. 46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dlok o sprejetju izvedbenega načrta Operativnega programa – julij, avgust, oktober (UL RS, št. 76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vodila organa upravlj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VODILA ORGANA UPRAVLJANJ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…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"/>
          <p:cNvSpPr/>
          <p:nvPr/>
        </p:nvSpPr>
        <p:spPr>
          <a:xfrm>
            <a:off x="571680" y="1514520"/>
            <a:ext cx="805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 upravičenih stroških za sredstva evropske kohezijske politike v obdobju 2014-2020 – jul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finančno upravljanje evropske kohezijske politike cilja Naložbe za rast in delovna mesta v programskem obdobju 2014-2020 – jul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načrtovanje, odločanje o podpori, spremljanje, poročanje in vrednotenje izvajanja evropske kohezijske politike v programskem obdobju 2014-2020 - julij/nov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izvajanje upravljalnih preverjanj po 125. členu Uredbe (EU) št. 1303/2013 programsko obdobje 2014-2020 – jul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loge - av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VODILA ORGANA UPRAVLJANJ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…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571680" y="1514520"/>
            <a:ext cx="80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na področju komuniciranja vsebin evropske kohezijske politike v programskem obdobju 2014–2020 – av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 izpolnjevanju pogojev za opravljanje nalog posredniškega organa v programskem obdobju 2014-2020 – sept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 izvajanje tehnične podpore operativnega programa evropske kohezijske politike za programsko obdobje 2014-2020 – september/nov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NORMATIVNE PODL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2"/>
          <p:cNvSpPr/>
          <p:nvPr/>
        </p:nvSpPr>
        <p:spPr>
          <a:xfrm>
            <a:off x="571680" y="1514520"/>
            <a:ext cx="8057880" cy="54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Uredba o izvajanju lokalnega razvoja, ki ga vodi skupnost, v programskem obdobju 2014–2020 – junij (UL RS, št. 42/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Zakon o izvrševanju proračunov Republike Slovenije za leti 2016 in 201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Uredba o porabi sredstev evropske kohezijske politike v Republiki Sloveniji v programskem obdobju 2014-2020 za cilj naložbe za rast in delovna m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celostne teritorialne nalož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finančni instrum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1285920" y="24098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352440" y="2448000"/>
          <a:ext cx="7915320" cy="1608120"/>
        </p:xfrm>
        <a:graphic>
          <a:graphicData uri="http://schemas.openxmlformats.org/drawingml/2006/table">
            <a:tbl>
              <a:tblPr/>
              <a:tblGrid>
                <a:gridCol w="658800"/>
                <a:gridCol w="660240"/>
                <a:gridCol w="658800"/>
                <a:gridCol w="660600"/>
                <a:gridCol w="658800"/>
                <a:gridCol w="660240"/>
                <a:gridCol w="658800"/>
                <a:gridCol w="660600"/>
                <a:gridCol w="658800"/>
                <a:gridCol w="660240"/>
                <a:gridCol w="658800"/>
                <a:gridCol w="660600"/>
              </a:tblGrid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spev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upa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240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1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U + 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1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</a:tbl>
          </a:graphicData>
        </a:graphic>
      </p:graphicFrame>
      <p:sp>
        <p:nvSpPr>
          <p:cNvPr id="666" name="TextBox 4"/>
          <p:cNvSpPr/>
          <p:nvPr/>
        </p:nvSpPr>
        <p:spPr>
          <a:xfrm>
            <a:off x="6964200" y="2109960"/>
            <a:ext cx="14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- v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Box 1"/>
          <p:cNvSpPr/>
          <p:nvPr/>
        </p:nvSpPr>
        <p:spPr>
          <a:xfrm>
            <a:off x="657360" y="647640"/>
            <a:ext cx="67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Arial"/>
              </a:rPr>
              <a:t>IZVEDBENI NAČ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360440" y="2500200"/>
          <a:ext cx="5872320" cy="1739880"/>
        </p:xfrm>
        <a:graphic>
          <a:graphicData uri="http://schemas.openxmlformats.org/drawingml/2006/table">
            <a:tbl>
              <a:tblPr/>
              <a:tblGrid>
                <a:gridCol w="1468440"/>
                <a:gridCol w="1467000"/>
                <a:gridCol w="1468440"/>
                <a:gridCol w="1468440"/>
              </a:tblGrid>
              <a:tr h="679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p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 dodelj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1"/>
          <p:cNvSpPr/>
          <p:nvPr/>
        </p:nvSpPr>
        <p:spPr>
          <a:xfrm>
            <a:off x="5913360" y="2109960"/>
            <a:ext cx="14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- v mio 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11-08T20:05:50Z</dcterms:modified>
  <cp:revision>33</cp:revision>
  <dc:subject/>
  <dc:title>PowerPoint Presentation</dc:title>
</cp:coreProperties>
</file>